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6A6B-8F86-4054-9304-0DB54DDDE5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0A8B-0BF7-4E2D-8788-226DCB7DA6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9375-17DC-4E04-8EEC-588AB288D2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4AB-8269-4DAB-9C7B-16B0D5CB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BB2-2A38-4BC8-B2C2-BEADD323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DF7-3D1E-4817-BA95-FE78BB12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1C7-9229-4388-A6EC-96018D48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004-3D55-454D-8552-42FA78B2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E00-3129-49CA-A3C3-57DD9BDB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30D-41AC-4C0A-8F56-25383A72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5BC-CC10-4891-914F-7E391F3E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82D-07C4-4771-95AC-16569873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226-8BE9-49D9-B7EB-197FC663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88D-C1AB-45D7-ACF7-485FA086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2CB-ED82-4CC4-B1E6-4B37F3D9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7079-26A6-46B4-A08D-F0997C5E4C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282680" y="2394000"/>
            <a:ext cx="6989760" cy="354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156200" y="105480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阿长与《山海经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672240" y="17733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鲁  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207" name="矩形 4"/>
          <p:cNvSpPr/>
          <p:nvPr/>
        </p:nvSpPr>
        <p:spPr>
          <a:xfrm>
            <a:off x="539640" y="1557360"/>
            <a:ext cx="813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长只是鲁迅家的保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她却为鲁迅买到了梦寐以求的《山海经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鲁迅改变了对阿长的看法。《山海经》的主要内容是我国民间传说中的地理知识及神话故事。用《阿长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海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做文章的题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是概括了文章的情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是表达了对长妈妈的尊敬以及深深的怀念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对角圆角矩形 5"/>
          <p:cNvSpPr/>
          <p:nvPr/>
        </p:nvSpPr>
        <p:spPr>
          <a:xfrm>
            <a:off x="250920" y="1341360"/>
            <a:ext cx="8497800" cy="4175280"/>
          </a:xfrm>
          <a:custGeom>
            <a:avLst/>
            <a:gdLst/>
            <a:ahLst/>
            <a:rect l="l" t="t" r="r" b="b"/>
            <a:pathLst>
              <a:path w="8496944" h="4176464">
                <a:moveTo>
                  <a:pt x="696091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3480372"/>
                </a:lnTo>
                <a:cubicBezTo>
                  <a:pt x="8496944" y="3864812"/>
                  <a:pt x="8185293" y="4176463"/>
                  <a:pt x="7800853" y="4176463"/>
                </a:cubicBezTo>
                <a:lnTo>
                  <a:pt x="0" y="4176464"/>
                </a:lnTo>
                <a:lnTo>
                  <a:pt x="0" y="4176464"/>
                </a:lnTo>
                <a:lnTo>
                  <a:pt x="0" y="696091"/>
                </a:lnTo>
                <a:cubicBezTo>
                  <a:pt x="0" y="311651"/>
                  <a:pt x="311651" y="0"/>
                  <a:pt x="69609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395280" y="2500200"/>
            <a:ext cx="8443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发生北洋军阀政府枪杀进步学生的“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”惨案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鲁迅受到反动政府的迫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得不到厦门大学任教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又受到守旧势力的排挤。在那种境况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借回忆少年生活写点文章聊以自慰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是写出了回忆散文集《朝花夕拾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是其中的第二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5"/>
          <p:cNvSpPr/>
          <p:nvPr/>
        </p:nvSpPr>
        <p:spPr>
          <a:xfrm>
            <a:off x="324000" y="1628640"/>
            <a:ext cx="8351640" cy="40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1478880" y="1641240"/>
            <a:ext cx="38653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通过回忆童年时代关于长妈妈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些生活片段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实地刻画了一个处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底层的普通劳动妇女的形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作者对长妈妈的感激和怀念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对角圆角矩形 9"/>
          <p:cNvSpPr/>
          <p:nvPr/>
        </p:nvSpPr>
        <p:spPr>
          <a:xfrm>
            <a:off x="250920" y="1484280"/>
            <a:ext cx="7777080" cy="2952720"/>
          </a:xfrm>
          <a:custGeom>
            <a:avLst/>
            <a:gdLst/>
            <a:ahLst/>
            <a:rect l="l" t="t" r="r" b="b"/>
            <a:pathLst>
              <a:path w="7776864" h="2952328">
                <a:moveTo>
                  <a:pt x="492064" y="0"/>
                </a:moveTo>
                <a:lnTo>
                  <a:pt x="7776864" y="0"/>
                </a:lnTo>
                <a:lnTo>
                  <a:pt x="7776864" y="0"/>
                </a:lnTo>
                <a:lnTo>
                  <a:pt x="7776864" y="2460263"/>
                </a:lnTo>
                <a:cubicBezTo>
                  <a:pt x="7776864" y="2732022"/>
                  <a:pt x="7556559" y="2952327"/>
                  <a:pt x="7284800" y="2952327"/>
                </a:cubicBezTo>
                <a:lnTo>
                  <a:pt x="0" y="2952328"/>
                </a:lnTo>
                <a:lnTo>
                  <a:pt x="0" y="2952328"/>
                </a:lnTo>
                <a:lnTo>
                  <a:pt x="0" y="492064"/>
                </a:lnTo>
                <a:cubicBezTo>
                  <a:pt x="0" y="220305"/>
                  <a:pt x="220305" y="0"/>
                  <a:pt x="49206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Administrator\Desktop\u=4189056547,2452722852&amp;fm=21&amp;gp=0.jpg"/>
          <p:cNvPicPr/>
          <p:nvPr/>
        </p:nvPicPr>
        <p:blipFill>
          <a:blip r:embed="rId2"/>
          <a:stretch/>
        </p:blipFill>
        <p:spPr>
          <a:xfrm>
            <a:off x="6588000" y="2133720"/>
            <a:ext cx="2232000" cy="2950920"/>
          </a:xfrm>
          <a:prstGeom prst="rect">
            <a:avLst/>
          </a:prstGeom>
          <a:ln w="9360">
            <a:solidFill>
              <a:srgbClr val="00b05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223" name="RJ6.EPS" descr="id:2147500754;FounderCES"/>
          <p:cNvPicPr/>
          <p:nvPr/>
        </p:nvPicPr>
        <p:blipFill>
          <a:blip r:embed="rId2"/>
          <a:stretch/>
        </p:blipFill>
        <p:spPr>
          <a:xfrm>
            <a:off x="900000" y="1484280"/>
            <a:ext cx="7632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8"/>
          <p:cNvSpPr/>
          <p:nvPr/>
        </p:nvSpPr>
        <p:spPr>
          <a:xfrm>
            <a:off x="611280" y="69228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7"/>
          <p:cNvSpPr/>
          <p:nvPr/>
        </p:nvSpPr>
        <p:spPr>
          <a:xfrm>
            <a:off x="539640" y="69228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611280" y="1270080"/>
            <a:ext cx="75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为什么题目中不写“长妈妈”而写“阿长”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>
            <a:off x="395280" y="191628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同的称呼标志着不同的身份、地位。《阿长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海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前一部分所描写的人物形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抑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是“不大佩服她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是“讨厌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是“不耐烦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是“麻烦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倘用“妈妈”称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实不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“阿长”称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副其实。所以这个题目表明文章的一半是抑笔。再则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“阿长”与《山海经》连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是一个看似矛盾的联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文盲妇女与一本古典名著怎么联系起来了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什么联系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令人好奇。题目用的是作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时写作的口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宜用“阿长”称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且“阿”字有亲昵的意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对角圆角矩形 6"/>
          <p:cNvSpPr/>
          <p:nvPr/>
        </p:nvSpPr>
        <p:spPr>
          <a:xfrm>
            <a:off x="324000" y="1844640"/>
            <a:ext cx="8496000" cy="4392720"/>
          </a:xfrm>
          <a:custGeom>
            <a:avLst/>
            <a:gdLst/>
            <a:ahLst/>
            <a:rect l="l" t="t" r="r" b="b"/>
            <a:pathLst>
              <a:path w="8496944" h="4392488">
                <a:moveTo>
                  <a:pt x="732095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3660392"/>
                </a:lnTo>
                <a:cubicBezTo>
                  <a:pt x="8496944" y="4064717"/>
                  <a:pt x="8169174" y="4392487"/>
                  <a:pt x="7764849" y="4392487"/>
                </a:cubicBezTo>
                <a:lnTo>
                  <a:pt x="0" y="4392488"/>
                </a:lnTo>
                <a:lnTo>
                  <a:pt x="0" y="4392488"/>
                </a:lnTo>
                <a:lnTo>
                  <a:pt x="0" y="732095"/>
                </a:lnTo>
                <a:cubicBezTo>
                  <a:pt x="0" y="327770"/>
                  <a:pt x="327770" y="0"/>
                  <a:pt x="73209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对角圆角矩形 9"/>
          <p:cNvSpPr/>
          <p:nvPr/>
        </p:nvSpPr>
        <p:spPr>
          <a:xfrm>
            <a:off x="395280" y="1197000"/>
            <a:ext cx="8424720" cy="576360"/>
          </a:xfrm>
          <a:custGeom>
            <a:avLst/>
            <a:gdLst/>
            <a:ahLst/>
            <a:rect l="l" t="t" r="r" b="b"/>
            <a:pathLst>
              <a:path w="8424936" h="576064">
                <a:moveTo>
                  <a:pt x="96012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480051"/>
                </a:lnTo>
                <a:cubicBezTo>
                  <a:pt x="8424936" y="533077"/>
                  <a:pt x="8381950" y="576063"/>
                  <a:pt x="8328924" y="576063"/>
                </a:cubicBezTo>
                <a:lnTo>
                  <a:pt x="0" y="576064"/>
                </a:lnTo>
                <a:lnTo>
                  <a:pt x="0" y="576064"/>
                </a:lnTo>
                <a:lnTo>
                  <a:pt x="0" y="96012"/>
                </a:lnTo>
                <a:cubicBezTo>
                  <a:pt x="0" y="42986"/>
                  <a:pt x="42986" y="0"/>
                  <a:pt x="9601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8"/>
          <p:cNvSpPr/>
          <p:nvPr/>
        </p:nvSpPr>
        <p:spPr>
          <a:xfrm>
            <a:off x="755640" y="6922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7"/>
          <p:cNvSpPr/>
          <p:nvPr/>
        </p:nvSpPr>
        <p:spPr>
          <a:xfrm>
            <a:off x="468360" y="620640"/>
            <a:ext cx="21589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"/>
          <p:cNvSpPr/>
          <p:nvPr/>
        </p:nvSpPr>
        <p:spPr>
          <a:xfrm>
            <a:off x="539640" y="1418760"/>
            <a:ext cx="813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写阿长买《山海经》的笔墨并不多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作者为什么不写她是怎么买到的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为什么此前此后的情形反倒写了不少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395280" y="230868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写阿长是怎么买到《山海经》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给读者留下一个广阔的想象空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象她怎样到处打听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象她怎样跑书店书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象她操了多少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想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更觉得那真是一种“伟大的神力”。在阿长问起《山海经》之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段文字写远房叔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的是写最初是怎么会接近书籍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么会渴慕《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经》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着写为什么求之而不可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是怎样的念念不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了这些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说明阿长为什么使“我”大喜过望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感到她确有“伟大的神力”了。在阿长买来《山海经》之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“我”的震悚的心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如获至宝的心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此后搜集的图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了这些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能说明阿长怎样令人尊敬而又感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热心对“我”的成长有怎样的意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对角圆角矩形 6"/>
          <p:cNvSpPr/>
          <p:nvPr/>
        </p:nvSpPr>
        <p:spPr>
          <a:xfrm>
            <a:off x="395280" y="1125360"/>
            <a:ext cx="8209080" cy="5183280"/>
          </a:xfrm>
          <a:custGeom>
            <a:avLst/>
            <a:gdLst/>
            <a:ahLst/>
            <a:rect l="l" t="t" r="r" b="b"/>
            <a:pathLst>
              <a:path w="8208912" h="5184576">
                <a:moveTo>
                  <a:pt x="864113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4320462"/>
                </a:lnTo>
                <a:cubicBezTo>
                  <a:pt x="8208912" y="4797698"/>
                  <a:pt x="7822035" y="5184575"/>
                  <a:pt x="7344799" y="5184575"/>
                </a:cubicBezTo>
                <a:lnTo>
                  <a:pt x="0" y="5184576"/>
                </a:lnTo>
                <a:lnTo>
                  <a:pt x="0" y="5184576"/>
                </a:lnTo>
                <a:lnTo>
                  <a:pt x="0" y="864113"/>
                </a:lnTo>
                <a:cubicBezTo>
                  <a:pt x="0" y="386877"/>
                  <a:pt x="386877" y="0"/>
                  <a:pt x="86411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1267920" y="1342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积累与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1186560" y="2076480"/>
            <a:ext cx="7461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加点字注音全对的一项是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惊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疮疤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h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g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掳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ǚ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孤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h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g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惧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陆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ī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震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ǒng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憎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èng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颈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ǐ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iǔ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规矩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ǔ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诘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4"/>
          <p:cNvSpPr/>
          <p:nvPr/>
        </p:nvSpPr>
        <p:spPr>
          <a:xfrm>
            <a:off x="1692360" y="3357720"/>
            <a:ext cx="21564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7164360" y="4581360"/>
            <a:ext cx="21600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6"/>
          <p:cNvSpPr/>
          <p:nvPr/>
        </p:nvSpPr>
        <p:spPr>
          <a:xfrm>
            <a:off x="4211640" y="465300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1692360" y="4581360"/>
            <a:ext cx="21564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9"/>
          <p:cNvSpPr/>
          <p:nvPr/>
        </p:nvSpPr>
        <p:spPr>
          <a:xfrm>
            <a:off x="7596360" y="3933720"/>
            <a:ext cx="21564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0"/>
          <p:cNvSpPr/>
          <p:nvPr/>
        </p:nvSpPr>
        <p:spPr>
          <a:xfrm>
            <a:off x="4572000" y="3933720"/>
            <a:ext cx="21600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11"/>
          <p:cNvSpPr/>
          <p:nvPr/>
        </p:nvSpPr>
        <p:spPr>
          <a:xfrm>
            <a:off x="1692360" y="4005360"/>
            <a:ext cx="2156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2"/>
          <p:cNvSpPr/>
          <p:nvPr/>
        </p:nvSpPr>
        <p:spPr>
          <a:xfrm>
            <a:off x="7236000" y="3357720"/>
            <a:ext cx="21564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3"/>
          <p:cNvSpPr/>
          <p:nvPr/>
        </p:nvSpPr>
        <p:spPr>
          <a:xfrm>
            <a:off x="4284720" y="328464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4"/>
          <p:cNvSpPr/>
          <p:nvPr/>
        </p:nvSpPr>
        <p:spPr>
          <a:xfrm>
            <a:off x="1692360" y="5300640"/>
            <a:ext cx="2156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15"/>
          <p:cNvSpPr/>
          <p:nvPr/>
        </p:nvSpPr>
        <p:spPr>
          <a:xfrm>
            <a:off x="7164360" y="522936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16"/>
          <p:cNvSpPr/>
          <p:nvPr/>
        </p:nvSpPr>
        <p:spPr>
          <a:xfrm>
            <a:off x="4572000" y="530064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7"/>
          <p:cNvSpPr/>
          <p:nvPr/>
        </p:nvSpPr>
        <p:spPr>
          <a:xfrm>
            <a:off x="6372360" y="2133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流程图: 可选过程 18"/>
          <p:cNvSpPr/>
          <p:nvPr/>
        </p:nvSpPr>
        <p:spPr>
          <a:xfrm>
            <a:off x="611280" y="1268280"/>
            <a:ext cx="8064360" cy="4537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流程图: 可选过程 19"/>
          <p:cNvSpPr/>
          <p:nvPr/>
        </p:nvSpPr>
        <p:spPr>
          <a:xfrm>
            <a:off x="468360" y="1197000"/>
            <a:ext cx="8207280" cy="4608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684360" y="1638360"/>
            <a:ext cx="71848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汉字书写完全正确的一项是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姆　　　大低　　　面如土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福橘　　   烦琐　　    莫明其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渴慕　　   投掷　　    豪不相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哀悼　　   和蔼　　    深不可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6588000" y="177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流程图: 可选过程 4"/>
          <p:cNvSpPr/>
          <p:nvPr/>
        </p:nvSpPr>
        <p:spPr>
          <a:xfrm>
            <a:off x="395280" y="1484280"/>
            <a:ext cx="7632720" cy="3889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bt6.jpg" descr=""/>
          <p:cNvPicPr/>
          <p:nvPr/>
        </p:nvPicPr>
        <p:blipFill>
          <a:blip r:embed="rId1"/>
          <a:stretch/>
        </p:blipFill>
        <p:spPr>
          <a:xfrm>
            <a:off x="2698920" y="260280"/>
            <a:ext cx="403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6875640" y="1773360"/>
            <a:ext cx="576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539640" y="1155600"/>
            <a:ext cx="77122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出下列各句分别运用了什么描写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生得黄胖而矮。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讨厌的是常喜欢切切察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人们低声絮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些什么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竖起第二个手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空中上下摇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点着对手或自己的鼻尖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穿着新的蓝布衫回来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见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将一包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给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兴地说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哥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画儿的‘三哼经’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给你买来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4716360" y="1916280"/>
            <a:ext cx="19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外貌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4932360" y="378936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动作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3995640" y="5732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语言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流程图: 可选过程 10"/>
          <p:cNvSpPr/>
          <p:nvPr/>
        </p:nvSpPr>
        <p:spPr>
          <a:xfrm>
            <a:off x="324000" y="1268280"/>
            <a:ext cx="8280360" cy="4969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bt6.jpg" descr=""/>
          <p:cNvPicPr/>
          <p:nvPr/>
        </p:nvPicPr>
        <p:blipFill>
          <a:blip r:embed="rId1"/>
          <a:stretch/>
        </p:blipFill>
        <p:spPr>
          <a:xfrm>
            <a:off x="2698920" y="260280"/>
            <a:ext cx="403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839960" y="1259280"/>
            <a:ext cx="542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照要求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选自散文集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鲁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名周树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现代伟大的无产阶级文学家、思想家、革命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现代文学的奠基人。代表作有小说集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等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篇回忆性散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写作手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实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现了作者童年时与长妈妈相处的几件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事粗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矩烦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表达了作者对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劳动妇女深深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情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3635280" y="1844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朝花夕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372360" y="2997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呐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1258920" y="3573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彷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>
            <a:off x="3924360" y="407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欲扬先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1979640" y="51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讲长毛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2"/>
          <p:cNvSpPr/>
          <p:nvPr/>
        </p:nvSpPr>
        <p:spPr>
          <a:xfrm>
            <a:off x="3635280" y="51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买《山海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经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3492360" y="5661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怀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bt6.jpg" descr=""/>
          <p:cNvPicPr/>
          <p:nvPr/>
        </p:nvPicPr>
        <p:blipFill>
          <a:blip r:embed="rId1"/>
          <a:stretch/>
        </p:blipFill>
        <p:spPr>
          <a:xfrm>
            <a:off x="2698920" y="260280"/>
            <a:ext cx="403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826920" y="1287360"/>
            <a:ext cx="7777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生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絮说（    ）　    惶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掳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惧惮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诘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脐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憎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 )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粗拙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震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倘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骇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疮疤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霹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孤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1839960" y="206064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x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2"/>
          <p:cNvSpPr/>
          <p:nvPr/>
        </p:nvSpPr>
        <p:spPr>
          <a:xfrm>
            <a:off x="6227640" y="256536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4"/>
          <p:cNvSpPr/>
          <p:nvPr/>
        </p:nvSpPr>
        <p:spPr>
          <a:xfrm>
            <a:off x="3635280" y="249228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5"/>
          <p:cNvSpPr/>
          <p:nvPr/>
        </p:nvSpPr>
        <p:spPr>
          <a:xfrm>
            <a:off x="1403280" y="314172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3"/>
          <p:cNvSpPr/>
          <p:nvPr/>
        </p:nvSpPr>
        <p:spPr>
          <a:xfrm>
            <a:off x="1332000" y="515772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7"/>
          <p:cNvSpPr/>
          <p:nvPr/>
        </p:nvSpPr>
        <p:spPr>
          <a:xfrm>
            <a:off x="971640" y="515772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9"/>
          <p:cNvSpPr/>
          <p:nvPr/>
        </p:nvSpPr>
        <p:spPr>
          <a:xfrm>
            <a:off x="6227640" y="443700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0"/>
          <p:cNvSpPr/>
          <p:nvPr/>
        </p:nvSpPr>
        <p:spPr>
          <a:xfrm>
            <a:off x="5867280" y="4437000"/>
            <a:ext cx="2174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1"/>
          <p:cNvSpPr/>
          <p:nvPr/>
        </p:nvSpPr>
        <p:spPr>
          <a:xfrm>
            <a:off x="6516720" y="378936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2"/>
          <p:cNvSpPr/>
          <p:nvPr/>
        </p:nvSpPr>
        <p:spPr>
          <a:xfrm>
            <a:off x="3924360" y="378936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3"/>
          <p:cNvSpPr/>
          <p:nvPr/>
        </p:nvSpPr>
        <p:spPr>
          <a:xfrm>
            <a:off x="1332000" y="378936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4"/>
          <p:cNvSpPr/>
          <p:nvPr/>
        </p:nvSpPr>
        <p:spPr>
          <a:xfrm>
            <a:off x="971640" y="378936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5"/>
          <p:cNvSpPr/>
          <p:nvPr/>
        </p:nvSpPr>
        <p:spPr>
          <a:xfrm>
            <a:off x="3924360" y="515772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26"/>
          <p:cNvSpPr/>
          <p:nvPr/>
        </p:nvSpPr>
        <p:spPr>
          <a:xfrm>
            <a:off x="3635280" y="314172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7"/>
          <p:cNvSpPr/>
          <p:nvPr/>
        </p:nvSpPr>
        <p:spPr>
          <a:xfrm>
            <a:off x="6227640" y="314172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28"/>
          <p:cNvSpPr/>
          <p:nvPr/>
        </p:nvSpPr>
        <p:spPr>
          <a:xfrm>
            <a:off x="3564000" y="443700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29"/>
          <p:cNvSpPr/>
          <p:nvPr/>
        </p:nvSpPr>
        <p:spPr>
          <a:xfrm>
            <a:off x="971640" y="443700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0"/>
          <p:cNvSpPr/>
          <p:nvPr/>
        </p:nvSpPr>
        <p:spPr>
          <a:xfrm>
            <a:off x="4276080" y="206064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1"/>
          <p:cNvSpPr/>
          <p:nvPr/>
        </p:nvSpPr>
        <p:spPr>
          <a:xfrm>
            <a:off x="7093080" y="2060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2"/>
          <p:cNvSpPr/>
          <p:nvPr/>
        </p:nvSpPr>
        <p:spPr>
          <a:xfrm>
            <a:off x="1755720" y="2708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3"/>
          <p:cNvSpPr/>
          <p:nvPr/>
        </p:nvSpPr>
        <p:spPr>
          <a:xfrm>
            <a:off x="442800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4"/>
          <p:cNvSpPr/>
          <p:nvPr/>
        </p:nvSpPr>
        <p:spPr>
          <a:xfrm>
            <a:off x="7020000" y="2637000"/>
            <a:ext cx="5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q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5"/>
          <p:cNvSpPr/>
          <p:nvPr/>
        </p:nvSpPr>
        <p:spPr>
          <a:xfrm>
            <a:off x="1648080" y="335772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ēnɡw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6"/>
          <p:cNvSpPr/>
          <p:nvPr/>
        </p:nvSpPr>
        <p:spPr>
          <a:xfrm>
            <a:off x="4298760" y="335772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7"/>
          <p:cNvSpPr/>
          <p:nvPr/>
        </p:nvSpPr>
        <p:spPr>
          <a:xfrm>
            <a:off x="6893280" y="33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ǒ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8"/>
          <p:cNvSpPr/>
          <p:nvPr/>
        </p:nvSpPr>
        <p:spPr>
          <a:xfrm>
            <a:off x="1743840" y="4005360"/>
            <a:ext cx="10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9"/>
          <p:cNvSpPr/>
          <p:nvPr/>
        </p:nvSpPr>
        <p:spPr>
          <a:xfrm>
            <a:off x="4267800" y="400536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0"/>
          <p:cNvSpPr/>
          <p:nvPr/>
        </p:nvSpPr>
        <p:spPr>
          <a:xfrm>
            <a:off x="6562440" y="3933720"/>
            <a:ext cx="19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ɡ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1"/>
          <p:cNvSpPr/>
          <p:nvPr/>
        </p:nvSpPr>
        <p:spPr>
          <a:xfrm>
            <a:off x="1837800" y="4653000"/>
            <a:ext cx="7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īl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2"/>
          <p:cNvSpPr/>
          <p:nvPr/>
        </p:nvSpPr>
        <p:spPr>
          <a:xfrm>
            <a:off x="4410000" y="4581360"/>
            <a:ext cx="14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43"/>
          <p:cNvSpPr/>
          <p:nvPr/>
        </p:nvSpPr>
        <p:spPr>
          <a:xfrm>
            <a:off x="971640" y="249228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对角圆角矩形 44"/>
          <p:cNvSpPr/>
          <p:nvPr/>
        </p:nvSpPr>
        <p:spPr>
          <a:xfrm>
            <a:off x="539640" y="1413000"/>
            <a:ext cx="8136000" cy="4319640"/>
          </a:xfrm>
          <a:custGeom>
            <a:avLst/>
            <a:gdLst/>
            <a:ahLst/>
            <a:rect l="l" t="t" r="r" b="b"/>
            <a:pathLst>
              <a:path w="8136904" h="4320480">
                <a:moveTo>
                  <a:pt x="720094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3600385"/>
                </a:lnTo>
                <a:cubicBezTo>
                  <a:pt x="8136904" y="3998082"/>
                  <a:pt x="7814507" y="4320479"/>
                  <a:pt x="7416810" y="4320479"/>
                </a:cubicBezTo>
                <a:lnTo>
                  <a:pt x="0" y="4320480"/>
                </a:lnTo>
                <a:lnTo>
                  <a:pt x="0" y="4320480"/>
                </a:lnTo>
                <a:lnTo>
                  <a:pt x="0" y="720094"/>
                </a:lnTo>
                <a:cubicBezTo>
                  <a:pt x="0" y="322397"/>
                  <a:pt x="322397" y="0"/>
                  <a:pt x="72009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684360" y="2918520"/>
            <a:ext cx="7184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1878840" y="1217520"/>
            <a:ext cx="538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综合性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鲁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现代伟大的文学家、思想家和革命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作品激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一代又一代青少年茁壮成长。为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某班开展了一次“走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鲁迅”的综合性学习活动。请你按要求完成以下任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活动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进作品】要求每位同学推荐一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外读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鲁迅作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写出一句推荐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推荐的作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推荐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484360" y="4581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野草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1979640" y="51577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部深刻优美的散文诗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10"/>
          <p:cNvSpPr/>
          <p:nvPr/>
        </p:nvSpPr>
        <p:spPr>
          <a:xfrm>
            <a:off x="1979640" y="566100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对角圆角矩形 11"/>
          <p:cNvSpPr/>
          <p:nvPr/>
        </p:nvSpPr>
        <p:spPr>
          <a:xfrm>
            <a:off x="250920" y="1125360"/>
            <a:ext cx="8642160" cy="4751640"/>
          </a:xfrm>
          <a:custGeom>
            <a:avLst/>
            <a:gdLst/>
            <a:ahLst/>
            <a:rect l="l" t="t" r="r" b="b"/>
            <a:pathLst>
              <a:path w="8640960" h="4752528">
                <a:moveTo>
                  <a:pt x="792103" y="0"/>
                </a:moveTo>
                <a:lnTo>
                  <a:pt x="8640960" y="0"/>
                </a:lnTo>
                <a:lnTo>
                  <a:pt x="8640960" y="0"/>
                </a:lnTo>
                <a:lnTo>
                  <a:pt x="8640960" y="3960424"/>
                </a:lnTo>
                <a:cubicBezTo>
                  <a:pt x="8640960" y="4397890"/>
                  <a:pt x="8286323" y="4752527"/>
                  <a:pt x="7848857" y="4752527"/>
                </a:cubicBezTo>
                <a:lnTo>
                  <a:pt x="0" y="4752528"/>
                </a:lnTo>
                <a:lnTo>
                  <a:pt x="0" y="4752528"/>
                </a:lnTo>
                <a:lnTo>
                  <a:pt x="0" y="792103"/>
                </a:lnTo>
                <a:cubicBezTo>
                  <a:pt x="0" y="354637"/>
                  <a:pt x="354637" y="0"/>
                  <a:pt x="79210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bt6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0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611280" y="209196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活动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鲁迅】根据材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补写对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材料一　鲁迅先生“关于自己”的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我是不写自传也不热心于别人给我作传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一生太平凡。倘使这样的也可以作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一下子可以有四万万部传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将塞破图书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材料二　生活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北京大冷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鲁迅先生还穿着单裤。他对朋友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看我的棉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是多少年没有换的老棉花。你看我的铺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从来不愿意换厚被子。生活安逸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就被生活所累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俭朴热忱甘于奉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476360" y="51796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幽默谦逊贵在自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慈祥冷峻缘于爱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6"/>
          <p:cNvSpPr/>
          <p:nvPr/>
        </p:nvSpPr>
        <p:spPr>
          <a:xfrm flipV="1">
            <a:off x="1547640" y="5589720"/>
            <a:ext cx="51850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对角圆角矩形 8"/>
          <p:cNvSpPr/>
          <p:nvPr/>
        </p:nvSpPr>
        <p:spPr>
          <a:xfrm>
            <a:off x="395280" y="1197000"/>
            <a:ext cx="8280360" cy="4608360"/>
          </a:xfrm>
          <a:custGeom>
            <a:avLst/>
            <a:gdLst/>
            <a:ahLst/>
            <a:rect l="l" t="t" r="r" b="b"/>
            <a:pathLst>
              <a:path w="8280920" h="4608512">
                <a:moveTo>
                  <a:pt x="768100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840411"/>
                </a:lnTo>
                <a:cubicBezTo>
                  <a:pt x="8280920" y="4264621"/>
                  <a:pt x="7937030" y="4608511"/>
                  <a:pt x="7512820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bt6.jpg" descr=""/>
          <p:cNvPicPr/>
          <p:nvPr/>
        </p:nvPicPr>
        <p:blipFill>
          <a:blip r:embed="rId1"/>
          <a:stretch/>
        </p:blipFill>
        <p:spPr>
          <a:xfrm>
            <a:off x="2698920" y="260280"/>
            <a:ext cx="403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250920" y="1628640"/>
            <a:ext cx="87138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二、阅读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替课阿姊　　刘心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①那天小时工阿芝又来为我住处打扫卫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说起临街嫌吵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加装一层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音窗的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扬起头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还不简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我弟弟阿虎来给你装好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你满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钱公道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就约定一周后的今天下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跟她弟弟一起来给我的窗户量尺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②阿芝按时来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弟弟却没有一起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芝说她弟弟生意很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正在另一家安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快就完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半个钟头后一定到我这边来。阿芝一边收拾屋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一边跟她闲聊。说起她弟弟阿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文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念到高中毕业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到北京发展得很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是给人家当制作安装塑钢窗的小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自己当小老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租了门面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意很红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虎闲了就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口碑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装了这家介绍到那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家满意。谁知说着说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芝挺直腰肢略休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叹口气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时候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总盼他得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盼他腿摔断了一百天才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让我大吃一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bt6.jpg" descr=""/>
          <p:cNvPicPr/>
          <p:nvPr/>
        </p:nvPicPr>
        <p:blipFill>
          <a:blip r:embed="rId1"/>
          <a:stretch/>
        </p:blipFill>
        <p:spPr>
          <a:xfrm>
            <a:off x="2698920" y="115920"/>
            <a:ext cx="40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3"/>
          <p:cNvSpPr/>
          <p:nvPr/>
        </p:nvSpPr>
        <p:spPr>
          <a:xfrm>
            <a:off x="431640" y="1341360"/>
            <a:ext cx="87123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想跟阿芝问个究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门铃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虎到了。一位虎虎有生气的小伙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现在眼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④阿虎细心地量完了尺寸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我商定好价格和上门安装的时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芝也把卫生打扫完了。我就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他们下面没有事情等着急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坐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家剥橘子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稍微聊一会儿。我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他们姐弟二人很友好的样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阿芝的话却古怪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什么盼弟弟生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盼弟弟腿摔断了养一百天……阿虎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时候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愿意为阿姊得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愿意爬树再摔断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让阿姊高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对姐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我彻底糊涂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对角圆角矩形 4"/>
          <p:cNvSpPr/>
          <p:nvPr/>
        </p:nvSpPr>
        <p:spPr>
          <a:xfrm>
            <a:off x="395280" y="1125360"/>
            <a:ext cx="8569440" cy="4535640"/>
          </a:xfrm>
          <a:custGeom>
            <a:avLst/>
            <a:gdLst/>
            <a:ahLst/>
            <a:rect l="l" t="t" r="r" b="b"/>
            <a:pathLst>
              <a:path w="8568952" h="4536504">
                <a:moveTo>
                  <a:pt x="756099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3780404"/>
                </a:lnTo>
                <a:cubicBezTo>
                  <a:pt x="8568952" y="4197986"/>
                  <a:pt x="8230435" y="4536503"/>
                  <a:pt x="7812853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bt6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0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"/>
          <p:cNvSpPr/>
          <p:nvPr/>
        </p:nvSpPr>
        <p:spPr>
          <a:xfrm>
            <a:off x="468360" y="1268280"/>
            <a:ext cx="835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姐弟俩一五一十地跟我讲起二十几年前的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才明白。他们家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大区域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绝非穷乡僻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是具体到某些边边角角的地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如他们那个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到现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还比较穷。阿芝之所以叫阿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是长到六七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里大人还没给她取名字。她懂事以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听父母叫她姊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思跟招弟差不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也果然招来了弟弟。村里有位老爷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据说最有学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读古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道古书里最重要的四个字是“之乎者也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来给他们姐弟都取了名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姐姐叫董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弟弟叫董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再有超生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可以叫董者、董也。有了儿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也就不再生育。上户口的时候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户籍民警建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姐姐叫董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弟弟叫董虎。当然同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他们乡里管姐姐都叫作姊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董芝就是董家姊姊的意思嘛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董虎确实属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对角圆角矩形 5"/>
          <p:cNvSpPr/>
          <p:nvPr/>
        </p:nvSpPr>
        <p:spPr>
          <a:xfrm>
            <a:off x="395280" y="1125360"/>
            <a:ext cx="8497800" cy="4680000"/>
          </a:xfrm>
          <a:custGeom>
            <a:avLst/>
            <a:gdLst/>
            <a:ahLst/>
            <a:rect l="l" t="t" r="r" b="b"/>
            <a:pathLst>
              <a:path w="8496944" h="4680520">
                <a:moveTo>
                  <a:pt x="780102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3900417"/>
                </a:lnTo>
                <a:cubicBezTo>
                  <a:pt x="8496944" y="4331255"/>
                  <a:pt x="8147680" y="4680519"/>
                  <a:pt x="7716842" y="4680519"/>
                </a:cubicBezTo>
                <a:lnTo>
                  <a:pt x="0" y="4680520"/>
                </a:lnTo>
                <a:lnTo>
                  <a:pt x="0" y="4680520"/>
                </a:lnTo>
                <a:lnTo>
                  <a:pt x="0" y="780102"/>
                </a:lnTo>
                <a:cubicBezTo>
                  <a:pt x="0" y="349264"/>
                  <a:pt x="349264" y="0"/>
                  <a:pt x="78010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bt6.jpg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403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324000" y="230220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⑥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时乡里有很多人家不让女孩子上学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让男孩子去上学。董芝到了上学的年龄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正式帮父母干农活了。董虎却满了六岁就去了学堂。那时候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有个约定俗成的规矩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如果有哪个学生病了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么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容许他们家里别的孩子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替他上课。一般替人上课的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是姊姊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此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替课阿姊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就成了他们那个乡里人人听到无需解释的一种角色。阿芝回忆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第一次当替课阿姊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阿虎上三年级的时候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贪吃山豆——就是野生的无柄樱桃——拉了两天肚子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背上阿虎的书包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了学校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坐到阿虎的座位上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用手摸着那凹凸不平的课桌桌面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里仿佛揣了块热糕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师讲的她一点也听不懂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她努力地含着一汪眼泪听呀听……到董虎上五年级的时候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爬到老高的杨树上去掏鸟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来时候不小心摔得小腿骨折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筋动骨一百天不能上学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芝就去当了足足一百天的替课阿姊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是替课的第九十三天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师提问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芝第一次高高地举起了胳膊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师和全体同学的眼光都集中到她的身上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师迟疑了一下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她起立回答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大声地答了出来——结果错了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老师、同学谁也没有笑话她……讲到这个细节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眼前的阿芝低头微笑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虎的眼睛却湿润了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赶忙把头别向一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对角圆角矩形 4"/>
          <p:cNvSpPr/>
          <p:nvPr/>
        </p:nvSpPr>
        <p:spPr>
          <a:xfrm>
            <a:off x="179280" y="907920"/>
            <a:ext cx="8713800" cy="5329440"/>
          </a:xfrm>
          <a:custGeom>
            <a:avLst/>
            <a:gdLst/>
            <a:ahLst/>
            <a:rect l="l" t="t" r="r" b="b"/>
            <a:pathLst>
              <a:path w="8712968" h="5328592">
                <a:moveTo>
                  <a:pt x="888116" y="0"/>
                </a:moveTo>
                <a:lnTo>
                  <a:pt x="8712968" y="0"/>
                </a:lnTo>
                <a:lnTo>
                  <a:pt x="8712968" y="0"/>
                </a:lnTo>
                <a:lnTo>
                  <a:pt x="8712968" y="4440475"/>
                </a:lnTo>
                <a:cubicBezTo>
                  <a:pt x="8712968" y="4930968"/>
                  <a:pt x="8315345" y="5328591"/>
                  <a:pt x="7824852" y="5328591"/>
                </a:cubicBezTo>
                <a:lnTo>
                  <a:pt x="0" y="5328592"/>
                </a:lnTo>
                <a:lnTo>
                  <a:pt x="0" y="5328592"/>
                </a:lnTo>
                <a:lnTo>
                  <a:pt x="0" y="888116"/>
                </a:lnTo>
                <a:cubicBezTo>
                  <a:pt x="0" y="397623"/>
                  <a:pt x="397623" y="0"/>
                  <a:pt x="88811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bt6.jpg" descr=""/>
          <p:cNvPicPr/>
          <p:nvPr/>
        </p:nvPicPr>
        <p:blipFill>
          <a:blip r:embed="rId1"/>
          <a:stretch/>
        </p:blipFill>
        <p:spPr>
          <a:xfrm>
            <a:off x="2627280" y="115920"/>
            <a:ext cx="403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611280" y="231768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姐弟俩告辞走了。想到他们说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他们那里发生了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好的变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是替课阿姊仍未绝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仍有新的文盲、半文盲出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里有些发堵。但是又想起阿芝说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和进城的农民工丈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自己的女儿送进了大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今不止她一个替课阿姊发誓要让下一代女娃儿受好的教育……当阿虎说出一句“现在大学毕业工作不好找”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芝望他的那个眼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深深地撞击着我的心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眼神里意味太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是当年她作为替课阿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课堂里高举手的那种迎向命运的勇敢与自信的延伸吧……想到这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又心臆大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5"/>
          <p:cNvSpPr/>
          <p:nvPr/>
        </p:nvSpPr>
        <p:spPr>
          <a:xfrm>
            <a:off x="611280" y="1125360"/>
            <a:ext cx="7345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对角圆角矩形 6"/>
          <p:cNvSpPr/>
          <p:nvPr/>
        </p:nvSpPr>
        <p:spPr>
          <a:xfrm>
            <a:off x="539640" y="1125360"/>
            <a:ext cx="8280360" cy="5112000"/>
          </a:xfrm>
          <a:custGeom>
            <a:avLst/>
            <a:gdLst/>
            <a:ahLst/>
            <a:rect l="l" t="t" r="r" b="b"/>
            <a:pathLst>
              <a:path w="8280920" h="5112568">
                <a:moveTo>
                  <a:pt x="852111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4260456"/>
                </a:lnTo>
                <a:cubicBezTo>
                  <a:pt x="8280920" y="4731064"/>
                  <a:pt x="7899417" y="5112567"/>
                  <a:pt x="7428809" y="5112567"/>
                </a:cubicBezTo>
                <a:lnTo>
                  <a:pt x="0" y="5112568"/>
                </a:lnTo>
                <a:lnTo>
                  <a:pt x="0" y="5112568"/>
                </a:lnTo>
                <a:lnTo>
                  <a:pt x="0" y="852111"/>
                </a:lnTo>
                <a:cubicBezTo>
                  <a:pt x="0" y="381503"/>
                  <a:pt x="381503" y="0"/>
                  <a:pt x="85211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bt6.jpg" descr=""/>
          <p:cNvPicPr/>
          <p:nvPr/>
        </p:nvPicPr>
        <p:blipFill>
          <a:blip r:embed="rId1"/>
          <a:stretch/>
        </p:blipFill>
        <p:spPr>
          <a:xfrm>
            <a:off x="2698920" y="260280"/>
            <a:ext cx="403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3"/>
          <p:cNvSpPr/>
          <p:nvPr/>
        </p:nvSpPr>
        <p:spPr>
          <a:xfrm>
            <a:off x="468360" y="1052640"/>
            <a:ext cx="6983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一句话解说题目“替课阿姊”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684360" y="1916280"/>
            <a:ext cx="64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弟弟生病了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姐姐可以替他去上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2017080" y="2495880"/>
            <a:ext cx="483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文在叙述故事时最能激发读者兴趣的方法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简洁地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611280" y="36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设置悬念。开头阿芝说弟弟喜欢读书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但只是高中毕业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后来阿芝又说小时候只想弟弟多生病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弟弟也说只想摔断腿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些都为读者留下了悬念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激发了读者的阅读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标注 9"/>
          <p:cNvSpPr/>
          <p:nvPr/>
        </p:nvSpPr>
        <p:spPr>
          <a:xfrm>
            <a:off x="611280" y="1916280"/>
            <a:ext cx="7561080" cy="576000"/>
          </a:xfrm>
          <a:prstGeom prst="wedgeRoundRectCallout">
            <a:avLst>
              <a:gd name="adj1" fmla="val -10171"/>
              <a:gd name="adj2" fmla="val -836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标注 10"/>
          <p:cNvSpPr/>
          <p:nvPr/>
        </p:nvSpPr>
        <p:spPr>
          <a:xfrm>
            <a:off x="611280" y="3573360"/>
            <a:ext cx="7848360" cy="2016360"/>
          </a:xfrm>
          <a:prstGeom prst="wedgeRoundRectCallout">
            <a:avLst>
              <a:gd name="adj1" fmla="val -1671"/>
              <a:gd name="adj2" fmla="val -5625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bt6.jpg" descr=""/>
          <p:cNvPicPr/>
          <p:nvPr/>
        </p:nvPicPr>
        <p:blipFill>
          <a:blip r:embed="rId1"/>
          <a:stretch/>
        </p:blipFill>
        <p:spPr>
          <a:xfrm>
            <a:off x="2698920" y="260280"/>
            <a:ext cx="403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468360" y="1135080"/>
            <a:ext cx="886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品析下面的语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她背上阿虎的书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了学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坐到阿虎的座位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用手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那凹凸不平的课桌桌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里仿佛揣了块热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师讲的她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也听不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她努力地含着一汪眼泪听呀听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826920" y="371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家里不让阿芝读书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阿虎生病了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阿芝替她去上学。第一次去上学的阿芝即使听不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也像怀揣着热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泪光闪闪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达出阿芝激动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标注 6"/>
          <p:cNvSpPr/>
          <p:nvPr/>
        </p:nvSpPr>
        <p:spPr>
          <a:xfrm>
            <a:off x="684360" y="3645000"/>
            <a:ext cx="7991280" cy="1871640"/>
          </a:xfrm>
          <a:prstGeom prst="wedgeRoundRectCallout">
            <a:avLst>
              <a:gd name="adj1" fmla="val 6412"/>
              <a:gd name="adj2" fmla="val -6022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bt6.jpg" descr=""/>
          <p:cNvPicPr/>
          <p:nvPr/>
        </p:nvPicPr>
        <p:blipFill>
          <a:blip r:embed="rId1"/>
          <a:stretch/>
        </p:blipFill>
        <p:spPr>
          <a:xfrm>
            <a:off x="2698920" y="260280"/>
            <a:ext cx="403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3"/>
          <p:cNvSpPr/>
          <p:nvPr/>
        </p:nvSpPr>
        <p:spPr>
          <a:xfrm>
            <a:off x="468360" y="1197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姐姐希望弟弟多生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弟弟希望自己经常摔断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的原因是什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表现了姐弟俩之间怎样的感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4"/>
          <p:cNvSpPr/>
          <p:nvPr/>
        </p:nvSpPr>
        <p:spPr>
          <a:xfrm>
            <a:off x="611280" y="2276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原因是姐弟俩不能同时上学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但是姐弟俩都希望能受到文化教育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达了姐弟俩之间互相关心、互相爱护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2503080" y="3532680"/>
            <a:ext cx="4393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文结尾表达了作者哪两种复杂的心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用一句话概括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的主题思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6"/>
          <p:cNvSpPr/>
          <p:nvPr/>
        </p:nvSpPr>
        <p:spPr>
          <a:xfrm>
            <a:off x="611280" y="458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种是心里发堵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种是心臆大畅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情很愉快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人应该有像阿芝一样“高举手的那种迎向命运的勇敢与自信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标注 8"/>
          <p:cNvSpPr/>
          <p:nvPr/>
        </p:nvSpPr>
        <p:spPr>
          <a:xfrm>
            <a:off x="468360" y="2421000"/>
            <a:ext cx="8136000" cy="1152360"/>
          </a:xfrm>
          <a:prstGeom prst="wedgeRoundRectCallout">
            <a:avLst>
              <a:gd name="adj1" fmla="val 902"/>
              <a:gd name="adj2" fmla="val -5863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标注 9"/>
          <p:cNvSpPr/>
          <p:nvPr/>
        </p:nvSpPr>
        <p:spPr>
          <a:xfrm>
            <a:off x="395280" y="4581360"/>
            <a:ext cx="8353440" cy="1440000"/>
          </a:xfrm>
          <a:prstGeom prst="wedgeRoundRectCallout">
            <a:avLst>
              <a:gd name="adj1" fmla="val -5851"/>
              <a:gd name="adj2" fmla="val -6357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bt6.jpg" descr=""/>
          <p:cNvPicPr/>
          <p:nvPr/>
        </p:nvPicPr>
        <p:blipFill>
          <a:blip r:embed="rId1"/>
          <a:stretch/>
        </p:blipFill>
        <p:spPr>
          <a:xfrm>
            <a:off x="2698920" y="260280"/>
            <a:ext cx="403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7000" y="503640"/>
            <a:ext cx="59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　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461840" y="974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360" y="1538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4218480" y="5040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　　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4461840" y="974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左大括号 26"/>
          <p:cNvSpPr/>
          <p:nvPr/>
        </p:nvSpPr>
        <p:spPr>
          <a:xfrm>
            <a:off x="2050920" y="2133720"/>
            <a:ext cx="289080" cy="863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599"/>
                </a:cubicBezTo>
                <a:lnTo>
                  <a:pt x="10800" y="10201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399"/>
                </a:cubicBezTo>
                <a:lnTo>
                  <a:pt x="10800" y="21001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左大括号 27"/>
          <p:cNvSpPr/>
          <p:nvPr/>
        </p:nvSpPr>
        <p:spPr>
          <a:xfrm>
            <a:off x="5796000" y="220500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599"/>
                </a:cubicBezTo>
                <a:lnTo>
                  <a:pt x="10800" y="10201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399"/>
                </a:cubicBezTo>
                <a:lnTo>
                  <a:pt x="10800" y="21001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左大括号 28"/>
          <p:cNvSpPr/>
          <p:nvPr/>
        </p:nvSpPr>
        <p:spPr>
          <a:xfrm>
            <a:off x="5724360" y="378936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584360"/>
              <a:gd name="textAreaBottom" fmla="*/ 15789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5"/>
                </a:cubicBezTo>
                <a:lnTo>
                  <a:pt x="10800" y="10555"/>
                </a:lnTo>
                <a:cubicBezTo>
                  <a:pt x="10800" y="10678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5"/>
                </a:cubicBezTo>
                <a:lnTo>
                  <a:pt x="10800" y="21355"/>
                </a:lnTo>
                <a:cubicBezTo>
                  <a:pt x="10800" y="21478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左大括号 29"/>
          <p:cNvSpPr/>
          <p:nvPr/>
        </p:nvSpPr>
        <p:spPr>
          <a:xfrm>
            <a:off x="2050920" y="3789360"/>
            <a:ext cx="217440" cy="1943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5400 h 1943280"/>
              <a:gd name="textAreaBottom" fmla="*/ 1937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199"/>
                </a:cubicBezTo>
                <a:lnTo>
                  <a:pt x="10800" y="10601"/>
                </a:lnTo>
                <a:cubicBezTo>
                  <a:pt x="10800" y="10701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0999"/>
                </a:cubicBezTo>
                <a:lnTo>
                  <a:pt x="10800" y="21401"/>
                </a:lnTo>
                <a:cubicBezTo>
                  <a:pt x="10800" y="215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0"/>
          <p:cNvSpPr/>
          <p:nvPr/>
        </p:nvSpPr>
        <p:spPr>
          <a:xfrm>
            <a:off x="2340000" y="1989000"/>
            <a:ext cx="259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ē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公正不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阿姨）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1"/>
          <p:cNvSpPr/>
          <p:nvPr/>
        </p:nvSpPr>
        <p:spPr>
          <a:xfrm>
            <a:off x="6084720" y="1989000"/>
            <a:ext cx="266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ué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觉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睡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2"/>
          <p:cNvSpPr/>
          <p:nvPr/>
        </p:nvSpPr>
        <p:spPr>
          <a:xfrm>
            <a:off x="2195640" y="3357720"/>
            <a:ext cx="3456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uò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落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丢三落四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落忍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uō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大大落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3"/>
          <p:cNvSpPr/>
          <p:nvPr/>
        </p:nvSpPr>
        <p:spPr>
          <a:xfrm>
            <a:off x="5862600" y="3500280"/>
            <a:ext cx="3281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iē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妥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iě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请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i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碑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对角圆角矩形 19"/>
          <p:cNvSpPr/>
          <p:nvPr/>
        </p:nvSpPr>
        <p:spPr>
          <a:xfrm>
            <a:off x="395280" y="1484280"/>
            <a:ext cx="8353440" cy="4392720"/>
          </a:xfrm>
          <a:custGeom>
            <a:avLst/>
            <a:gdLst/>
            <a:ahLst/>
            <a:rect l="l" t="t" r="r" b="b"/>
            <a:pathLst>
              <a:path w="8352928" h="4392488">
                <a:moveTo>
                  <a:pt x="732095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660392"/>
                </a:lnTo>
                <a:cubicBezTo>
                  <a:pt x="8352928" y="4064717"/>
                  <a:pt x="8025158" y="4392487"/>
                  <a:pt x="7620833" y="4392487"/>
                </a:cubicBezTo>
                <a:lnTo>
                  <a:pt x="0" y="4392488"/>
                </a:lnTo>
                <a:lnTo>
                  <a:pt x="0" y="4392488"/>
                </a:lnTo>
                <a:lnTo>
                  <a:pt x="0" y="732095"/>
                </a:lnTo>
                <a:cubicBezTo>
                  <a:pt x="0" y="327770"/>
                  <a:pt x="327770" y="0"/>
                  <a:pt x="73209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468360" y="12463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芝是文中的主要人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她身上我们应该汲取一种怎样的精神力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4"/>
          <p:cNvSpPr/>
          <p:nvPr/>
        </p:nvSpPr>
        <p:spPr>
          <a:xfrm>
            <a:off x="46836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阿芝身上体现了一种敢于和命运勇敢搏斗的精神和自信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是我们应该汲取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2166480" y="2694600"/>
            <a:ext cx="540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三、课堂小练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本文突出运用了先抑后扬的写作手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我们刻画了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血有肉、鲜明生动的长妈妈的形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后让人久久难以忘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就请你打开记忆的闸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想你的童年生活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没有像阿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样给你留下深刻印象的普通人或物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请抓住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、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特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先抑后扬的写作手法描写一下吧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标注 5"/>
          <p:cNvSpPr/>
          <p:nvPr/>
        </p:nvSpPr>
        <p:spPr>
          <a:xfrm>
            <a:off x="468360" y="1989000"/>
            <a:ext cx="8064360" cy="863640"/>
          </a:xfrm>
          <a:prstGeom prst="wedgeRoundRectCallout">
            <a:avLst>
              <a:gd name="adj1" fmla="val 648"/>
              <a:gd name="adj2" fmla="val -8926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bt6.jpg" descr=""/>
          <p:cNvPicPr/>
          <p:nvPr/>
        </p:nvPicPr>
        <p:blipFill>
          <a:blip r:embed="rId1"/>
          <a:stretch/>
        </p:blipFill>
        <p:spPr>
          <a:xfrm>
            <a:off x="2698920" y="260280"/>
            <a:ext cx="403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826920" y="217296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对生我养我的陕北的山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鄙视过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厌倦过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度竟然埋怨起我的祖先为什么不把家定居在广阔的平原上、浩瀚的大海边、秀丽的江南间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而偏偏要将家安在这贫瘠清苦偏远落后的千山万壑中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使得日后的子孙们在这里永远受苦受难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千回百转走不出大山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享受不到山外精彩世界的生活……但是现在想来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那时是多么地无知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多么地任性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多么地忘本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果当初没有汲取大山的营养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没有经过大山的磨砺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没有遵循大山的教诲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不可能体格健壮、意志顽强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更不可能走出大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对角圆角矩形 5"/>
          <p:cNvSpPr/>
          <p:nvPr/>
        </p:nvSpPr>
        <p:spPr>
          <a:xfrm>
            <a:off x="395280" y="1125360"/>
            <a:ext cx="8353440" cy="5040360"/>
          </a:xfrm>
          <a:custGeom>
            <a:avLst/>
            <a:gdLst/>
            <a:ahLst/>
            <a:rect l="l" t="t" r="r" b="b"/>
            <a:pathLst>
              <a:path w="8352928" h="5040560">
                <a:moveTo>
                  <a:pt x="840110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4200449"/>
                </a:lnTo>
                <a:cubicBezTo>
                  <a:pt x="8352928" y="4664429"/>
                  <a:pt x="7976798" y="5040559"/>
                  <a:pt x="7512818" y="5040559"/>
                </a:cubicBezTo>
                <a:lnTo>
                  <a:pt x="0" y="5040560"/>
                </a:lnTo>
                <a:lnTo>
                  <a:pt x="0" y="5040560"/>
                </a:lnTo>
                <a:lnTo>
                  <a:pt x="0" y="840110"/>
                </a:lnTo>
                <a:cubicBezTo>
                  <a:pt x="0" y="376130"/>
                  <a:pt x="376130" y="0"/>
                  <a:pt x="84011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bt6.jpg" descr=""/>
          <p:cNvPicPr/>
          <p:nvPr/>
        </p:nvPicPr>
        <p:blipFill>
          <a:blip r:embed="rId1"/>
          <a:stretch/>
        </p:blipFill>
        <p:spPr>
          <a:xfrm>
            <a:off x="2698920" y="260280"/>
            <a:ext cx="403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bt6b.jpg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31964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395280" y="1052640"/>
          <a:ext cx="8281800" cy="4811760"/>
        </p:xfrm>
        <a:graphic>
          <a:graphicData uri="http://schemas.openxmlformats.org/drawingml/2006/table">
            <a:tbl>
              <a:tblPr/>
              <a:tblGrid>
                <a:gridCol w="736560"/>
                <a:gridCol w="7545240"/>
              </a:tblGrid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语境拼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归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371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解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TextBox 5"/>
          <p:cNvSpPr/>
          <p:nvPr/>
        </p:nvSpPr>
        <p:spPr>
          <a:xfrm>
            <a:off x="1332000" y="1557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语境拼写题往往设置一个背景材料语段或经典语段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语段中考查对字音、字形、字义的把握。语段中往往含有易错字、多音字、形近字、同音异形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7"/>
          <p:cNvSpPr/>
          <p:nvPr/>
        </p:nvSpPr>
        <p:spPr>
          <a:xfrm>
            <a:off x="1187280" y="249228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语境辨音。把多音字放入特定的语境中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准确辨别读音就容易多了。如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据史书记载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z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)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她多才多艺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每逢三年五载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z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)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汉族和匈奴首脑聚会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都要载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z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)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歌载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z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)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语境辨形。把形声字放入特定的语境中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辨别字形就准确多了。如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他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断壁残垣的缝隙中发现了一块精美的璧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注意事项。解答时要注意两个问题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①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定要结合语境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特别注意易错字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音字、形近字和一词多义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②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采用比较的方法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将音、形、义结合起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辨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bt46.jpg" descr=""/>
          <p:cNvPicPr/>
          <p:nvPr/>
        </p:nvPicPr>
        <p:blipFill>
          <a:blip r:embed="rId1"/>
          <a:stretch/>
        </p:blipFill>
        <p:spPr>
          <a:xfrm>
            <a:off x="6083280" y="331920"/>
            <a:ext cx="2448000" cy="504720"/>
          </a:xfrm>
          <a:prstGeom prst="rect">
            <a:avLst/>
          </a:prstGeom>
          <a:ln w="0">
            <a:noFill/>
          </a:ln>
        </p:spPr>
      </p:pic>
      <p:pic>
        <p:nvPicPr>
          <p:cNvPr id="333" name="bt6b.jpg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4321080" cy="7923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"/>
          <p:cNvSpPr/>
          <p:nvPr/>
        </p:nvSpPr>
        <p:spPr>
          <a:xfrm>
            <a:off x="1992960" y="1112400"/>
            <a:ext cx="5576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东营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拼音写出汉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加点的字注音。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暗深邃的土地探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理想的根基变得坚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暴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狂风搏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品格变得刚韧倔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阳光雨露中汲取精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生命绽放的光彩愈益绚烂夺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②倔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字音和字形。要注意“倔”为多音字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“顽强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固执”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读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jué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“言语粗直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态度不好”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读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juè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此处应读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jué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注意“磐石”意为厚而大的石头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磐”应从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979640" y="328572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4284720" y="3284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j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8"/>
          <p:cNvSpPr/>
          <p:nvPr/>
        </p:nvSpPr>
        <p:spPr>
          <a:xfrm>
            <a:off x="324000" y="1052640"/>
            <a:ext cx="7704000" cy="504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对角圆角矩形 10"/>
          <p:cNvSpPr/>
          <p:nvPr/>
        </p:nvSpPr>
        <p:spPr>
          <a:xfrm>
            <a:off x="468360" y="1197000"/>
            <a:ext cx="8280360" cy="4968720"/>
          </a:xfrm>
          <a:custGeom>
            <a:avLst/>
            <a:gdLst/>
            <a:ahLst/>
            <a:rect l="l" t="t" r="r" b="b"/>
            <a:pathLst>
              <a:path w="8280920" h="4968552">
                <a:moveTo>
                  <a:pt x="828108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4140443"/>
                </a:lnTo>
                <a:cubicBezTo>
                  <a:pt x="8280920" y="4597794"/>
                  <a:pt x="7910163" y="4968551"/>
                  <a:pt x="7452812" y="4968551"/>
                </a:cubicBezTo>
                <a:lnTo>
                  <a:pt x="0" y="4968552"/>
                </a:lnTo>
                <a:lnTo>
                  <a:pt x="0" y="4968552"/>
                </a:lnTo>
                <a:lnTo>
                  <a:pt x="0" y="828108"/>
                </a:lnTo>
                <a:cubicBezTo>
                  <a:pt x="0" y="370757"/>
                  <a:pt x="370757" y="0"/>
                  <a:pt x="82810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bt46.jpg" descr=""/>
          <p:cNvPicPr/>
          <p:nvPr/>
        </p:nvPicPr>
        <p:blipFill>
          <a:blip r:embed="rId1"/>
          <a:stretch/>
        </p:blipFill>
        <p:spPr>
          <a:xfrm>
            <a:off x="6083280" y="331920"/>
            <a:ext cx="2448000" cy="504720"/>
          </a:xfrm>
          <a:prstGeom prst="rect">
            <a:avLst/>
          </a:prstGeom>
          <a:ln w="0">
            <a:noFill/>
          </a:ln>
        </p:spPr>
      </p:pic>
      <p:pic>
        <p:nvPicPr>
          <p:cNvPr id="340" name="bt6b.jpg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4321080" cy="79236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"/>
          <p:cNvSpPr/>
          <p:nvPr/>
        </p:nvSpPr>
        <p:spPr>
          <a:xfrm>
            <a:off x="539640" y="1291680"/>
            <a:ext cx="82090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资阳中考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下面的文字答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汽车在望不到边际的高原上奔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扑入你的视野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黄绿错综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条大毡子。黄的是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开垦的荒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几十万年前由伟大的自然力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积成功的黄土高原的外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的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人类劳力战胜自然的成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麦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风吹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翻起了一轮一轮的绿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时你会真心佩服昔人所造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字“麦浪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若不是妙手偶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便确是经过锤炼的语言的精华。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绿主宰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边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ín)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坦荡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dǐ)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时如果不是宛若并肩的远山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峰提醒了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些山峰凭你的肉眼来判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知道是在你脚底下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会忘记了汽车是在高原上行驶。这时你涌起来的感想也许是“雄壮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许是“伟大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诸如此类的形容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而同时你的眼睛也许觉得有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倦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对当前的“雄壮”或“伟大”闭了眼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另一种的味儿在你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头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ī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暗长了——“单调”。可不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一点儿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流程图: 过程 5"/>
          <p:cNvSpPr/>
          <p:nvPr/>
        </p:nvSpPr>
        <p:spPr>
          <a:xfrm>
            <a:off x="324000" y="1268280"/>
            <a:ext cx="8064360" cy="4897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bt6b.jpg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4321080" cy="792360"/>
          </a:xfrm>
          <a:prstGeom prst="rect">
            <a:avLst/>
          </a:prstGeom>
          <a:ln w="0">
            <a:noFill/>
          </a:ln>
        </p:spPr>
      </p:pic>
      <p:pic>
        <p:nvPicPr>
          <p:cNvPr id="344" name="bt45.jpg" descr=""/>
          <p:cNvPicPr/>
          <p:nvPr/>
        </p:nvPicPr>
        <p:blipFill>
          <a:blip r:embed="rId2"/>
          <a:stretch/>
        </p:blipFill>
        <p:spPr>
          <a:xfrm>
            <a:off x="6299280" y="331920"/>
            <a:ext cx="2340000" cy="549000"/>
          </a:xfrm>
          <a:prstGeom prst="rect">
            <a:avLst/>
          </a:prstGeom>
          <a:ln w="0">
            <a:noFill/>
          </a:ln>
        </p:spPr>
      </p:pic>
      <p:sp>
        <p:nvSpPr>
          <p:cNvPr id="345" name="矩形 4"/>
          <p:cNvSpPr/>
          <p:nvPr/>
        </p:nvSpPr>
        <p:spPr>
          <a:xfrm>
            <a:off x="468360" y="141300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下列加点的字注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②妙手偶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③黄绿错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文中注音写汉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边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ín)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②坦荡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dǐ)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ī)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1547640" y="2060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4572000" y="1989000"/>
            <a:ext cx="8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ǒ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7236000" y="2060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z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2627280" y="306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0"/>
          <p:cNvSpPr/>
          <p:nvPr/>
        </p:nvSpPr>
        <p:spPr>
          <a:xfrm>
            <a:off x="5867280" y="31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1"/>
          <p:cNvSpPr/>
          <p:nvPr/>
        </p:nvSpPr>
        <p:spPr>
          <a:xfrm>
            <a:off x="197964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95280" y="4182120"/>
            <a:ext cx="24512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解析：本题考查对字音、字形的掌握。平时要注意识记、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累以及对同音字、相近字的辨析。拼音要注意声母、韵母和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调的正确写法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汉字要注意“垠”与“很”、“砥”与“抵”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区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12"/>
          <p:cNvSpPr/>
          <p:nvPr/>
        </p:nvSpPr>
        <p:spPr>
          <a:xfrm>
            <a:off x="1258920" y="2492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3"/>
          <p:cNvSpPr/>
          <p:nvPr/>
        </p:nvSpPr>
        <p:spPr>
          <a:xfrm>
            <a:off x="3924360" y="249228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14"/>
          <p:cNvSpPr/>
          <p:nvPr/>
        </p:nvSpPr>
        <p:spPr>
          <a:xfrm>
            <a:off x="6948360" y="249228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4316760" y="44280"/>
            <a:ext cx="5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ff"/>
                </a:solidFill>
                <a:latin typeface="宋体"/>
              </a:rPr>
              <a:t>3.</a:t>
            </a:r>
            <a:r>
              <a:rPr b="0" lang="zh-CN" sz="900" spc="-1" strike="noStrike">
                <a:solidFill>
                  <a:srgbClr val="ff00ff"/>
                </a:solidFill>
                <a:latin typeface="宋体"/>
              </a:rPr>
              <a:t>形近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71640" y="32040"/>
            <a:ext cx="7632720" cy="67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左大括号 11"/>
          <p:cNvSpPr/>
          <p:nvPr/>
        </p:nvSpPr>
        <p:spPr>
          <a:xfrm>
            <a:off x="1258920" y="2708280"/>
            <a:ext cx="433440" cy="115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11160 h 1152360"/>
              <a:gd name="textAreaBottom" fmla="*/ 114120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7"/>
                  <a:pt x="10800" y="674"/>
                </a:cubicBezTo>
                <a:lnTo>
                  <a:pt x="10800" y="10126"/>
                </a:lnTo>
                <a:cubicBezTo>
                  <a:pt x="10800" y="10463"/>
                  <a:pt x="5400" y="10800"/>
                  <a:pt x="0" y="10800"/>
                </a:cubicBezTo>
                <a:cubicBezTo>
                  <a:pt x="5400" y="10800"/>
                  <a:pt x="10800" y="11137"/>
                  <a:pt x="10800" y="11474"/>
                </a:cubicBezTo>
                <a:lnTo>
                  <a:pt x="10800" y="20926"/>
                </a:lnTo>
                <a:cubicBezTo>
                  <a:pt x="10800" y="2126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左大括号 12"/>
          <p:cNvSpPr/>
          <p:nvPr/>
        </p:nvSpPr>
        <p:spPr>
          <a:xfrm>
            <a:off x="1403280" y="4724280"/>
            <a:ext cx="289080" cy="86544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865440"/>
              <a:gd name="textAreaBottom" fmla="*/ 85824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599"/>
                </a:cubicBezTo>
                <a:lnTo>
                  <a:pt x="10800" y="10201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399"/>
                </a:cubicBezTo>
                <a:lnTo>
                  <a:pt x="10800" y="21001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左大括号 13"/>
          <p:cNvSpPr/>
          <p:nvPr/>
        </p:nvSpPr>
        <p:spPr>
          <a:xfrm>
            <a:off x="5580000" y="4581360"/>
            <a:ext cx="287280" cy="8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599"/>
                </a:cubicBezTo>
                <a:lnTo>
                  <a:pt x="10800" y="10201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399"/>
                </a:cubicBezTo>
                <a:lnTo>
                  <a:pt x="10800" y="21001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左大括号 14"/>
          <p:cNvSpPr/>
          <p:nvPr/>
        </p:nvSpPr>
        <p:spPr>
          <a:xfrm>
            <a:off x="5508720" y="2781360"/>
            <a:ext cx="287280" cy="8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599"/>
                </a:cubicBezTo>
                <a:lnTo>
                  <a:pt x="10800" y="10201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399"/>
                </a:cubicBezTo>
                <a:lnTo>
                  <a:pt x="10800" y="21001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571680" cy="162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1763640" y="2276640"/>
            <a:ext cx="2129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历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来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严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励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鼓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5940360" y="2276640"/>
            <a:ext cx="2987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枕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ě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枕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ě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沈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耽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耽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1763640" y="4437000"/>
            <a:ext cx="26337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绘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u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绘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侩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市侩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6012000" y="4365720"/>
            <a:ext cx="216036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挤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ǐ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拥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脐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í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肚脐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对角圆角矩形 20"/>
          <p:cNvSpPr/>
          <p:nvPr/>
        </p:nvSpPr>
        <p:spPr>
          <a:xfrm>
            <a:off x="539640" y="1628640"/>
            <a:ext cx="8209080" cy="4248360"/>
          </a:xfrm>
          <a:custGeom>
            <a:avLst/>
            <a:gdLst/>
            <a:ahLst/>
            <a:rect l="l" t="t" r="r" b="b"/>
            <a:pathLst>
              <a:path w="8208912" h="4248472">
                <a:moveTo>
                  <a:pt x="708092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540379"/>
                </a:lnTo>
                <a:cubicBezTo>
                  <a:pt x="8208912" y="3931447"/>
                  <a:pt x="7891888" y="4248471"/>
                  <a:pt x="7500820" y="4248471"/>
                </a:cubicBezTo>
                <a:lnTo>
                  <a:pt x="0" y="4248472"/>
                </a:lnTo>
                <a:lnTo>
                  <a:pt x="0" y="4248472"/>
                </a:lnTo>
                <a:lnTo>
                  <a:pt x="0" y="708092"/>
                </a:lnTo>
                <a:cubicBezTo>
                  <a:pt x="0" y="317024"/>
                  <a:pt x="317024" y="0"/>
                  <a:pt x="70809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8"/>
          <p:cNvSpPr/>
          <p:nvPr/>
        </p:nvSpPr>
        <p:spPr>
          <a:xfrm>
            <a:off x="755640" y="83664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4316760" y="44280"/>
            <a:ext cx="5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ff"/>
                </a:solidFill>
                <a:latin typeface="宋体"/>
              </a:rPr>
              <a:t>3.</a:t>
            </a:r>
            <a:r>
              <a:rPr b="0" lang="zh-CN" sz="900" spc="-1" strike="noStrike">
                <a:solidFill>
                  <a:srgbClr val="ff00ff"/>
                </a:solidFill>
                <a:latin typeface="宋体"/>
              </a:rPr>
              <a:t>形近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971640" y="246240"/>
            <a:ext cx="763272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571680" cy="162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3265920" y="8380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成语辨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5280" y="1557360"/>
          <a:ext cx="8281800" cy="4228920"/>
        </p:xfrm>
        <a:graphic>
          <a:graphicData uri="http://schemas.openxmlformats.org/drawingml/2006/table">
            <a:tbl>
              <a:tblPr/>
              <a:tblGrid>
                <a:gridCol w="944640"/>
                <a:gridCol w="7337160"/>
              </a:tblGrid>
              <a:tr h="45756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莫名其妙　莫可名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NEU-BZ-S92"/>
                          <a:ea typeface="宋体"/>
                        </a:rPr>
                        <a:t>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NEU-BZ-S92"/>
                          <a:ea typeface="方正书宋_GBK"/>
                        </a:rPr>
                        <a:t>求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1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NEU-BZ-S92"/>
                          <a:ea typeface="宋体"/>
                        </a:rPr>
                        <a:t>辨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Box 21"/>
          <p:cNvSpPr/>
          <p:nvPr/>
        </p:nvSpPr>
        <p:spPr>
          <a:xfrm>
            <a:off x="1403280" y="270828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莫名其妙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没有人能说明它的奥妙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道理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示事情很奇怪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使人不明白。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弟弟总是问一些莫名其妙的问题。莫可名状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不能用言语来形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侧重于无法形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般只用来形容心理、感觉的复杂微妙。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终于完成了这幅作品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心中莫可名状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觉得非常地幸福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1619280" y="2060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两个词都是形容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都有“无法表达”的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8"/>
          <p:cNvSpPr/>
          <p:nvPr/>
        </p:nvSpPr>
        <p:spPr>
          <a:xfrm>
            <a:off x="539640" y="54936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7"/>
          <p:cNvSpPr/>
          <p:nvPr/>
        </p:nvSpPr>
        <p:spPr>
          <a:xfrm>
            <a:off x="539640" y="549360"/>
            <a:ext cx="216072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t2.jpg" descr=""/>
          <p:cNvPicPr/>
          <p:nvPr/>
        </p:nvPicPr>
        <p:blipFill>
          <a:blip r:embed="rId1"/>
          <a:stretch/>
        </p:blipFill>
        <p:spPr>
          <a:xfrm>
            <a:off x="2698920" y="26028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971640" y="246240"/>
            <a:ext cx="763272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6012000" y="4365720"/>
            <a:ext cx="21603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607320" y="105408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5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重要词语释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24000" y="1438200"/>
            <a:ext cx="9144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震       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莫名其妙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族而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切察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睡       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       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顺流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971640" y="155736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身体因恐惧或过度兴奋而颤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2050920" y="2133720"/>
            <a:ext cx="7313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没有人能说出它的奥妙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示事情很奇怪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使人不明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0"/>
          <p:cNvSpPr/>
          <p:nvPr/>
        </p:nvSpPr>
        <p:spPr>
          <a:xfrm>
            <a:off x="2050920" y="3500280"/>
            <a:ext cx="52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同一家族聚在一处居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1"/>
          <p:cNvSpPr/>
          <p:nvPr/>
        </p:nvSpPr>
        <p:spPr>
          <a:xfrm>
            <a:off x="2195640" y="4149720"/>
            <a:ext cx="46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模拟细碎的说话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2"/>
          <p:cNvSpPr/>
          <p:nvPr/>
        </p:nvSpPr>
        <p:spPr>
          <a:xfrm>
            <a:off x="2268360" y="479736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睡觉时的表情或姿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2268360" y="544500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农历一年的第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2340000" y="5950080"/>
            <a:ext cx="4649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即“顺顺溜溜”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顺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7"/>
          <p:cNvSpPr/>
          <p:nvPr/>
        </p:nvSpPr>
        <p:spPr>
          <a:xfrm>
            <a:off x="611280" y="765000"/>
            <a:ext cx="216036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316760" y="44280"/>
            <a:ext cx="5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ff"/>
                </a:solidFill>
                <a:latin typeface="宋体"/>
              </a:rPr>
              <a:t>3.</a:t>
            </a:r>
            <a:r>
              <a:rPr b="0" lang="zh-CN" sz="900" spc="-1" strike="noStrike">
                <a:solidFill>
                  <a:srgbClr val="ff00ff"/>
                </a:solidFill>
                <a:latin typeface="宋体"/>
              </a:rPr>
              <a:t>形近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71640" y="246240"/>
            <a:ext cx="763272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6012000" y="4365720"/>
            <a:ext cx="21603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539640" y="1289520"/>
            <a:ext cx="91440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烦       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不可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如土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       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诘     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惧     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2050920" y="141300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繁杂琐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2087640" y="20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深得无法测量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极深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也比喻不易捉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2050920" y="2565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脸色跟土的颜色一样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没有血色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极端惊恐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1908000" y="4797360"/>
            <a:ext cx="39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追问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责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2050920" y="5373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害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0"/>
          <p:cNvSpPr/>
          <p:nvPr/>
        </p:nvSpPr>
        <p:spPr>
          <a:xfrm>
            <a:off x="395280" y="2997360"/>
            <a:ext cx="105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自己的儿子给没有儿子的兄弟、堂兄弟或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戚做儿子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没有儿子的人以兄弟、堂兄弟或亲戚的儿子为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己的儿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对角圆角矩形 21"/>
          <p:cNvSpPr/>
          <p:nvPr/>
        </p:nvSpPr>
        <p:spPr>
          <a:xfrm>
            <a:off x="395280" y="1341360"/>
            <a:ext cx="8064360" cy="4680000"/>
          </a:xfrm>
          <a:custGeom>
            <a:avLst/>
            <a:gdLst/>
            <a:ahLst/>
            <a:rect l="l" t="t" r="r" b="b"/>
            <a:pathLst>
              <a:path w="8064896" h="4680520">
                <a:moveTo>
                  <a:pt x="780102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900417"/>
                </a:lnTo>
                <a:cubicBezTo>
                  <a:pt x="8064896" y="4331255"/>
                  <a:pt x="7715632" y="4680519"/>
                  <a:pt x="7284794" y="4680519"/>
                </a:cubicBezTo>
                <a:lnTo>
                  <a:pt x="0" y="4680520"/>
                </a:lnTo>
                <a:lnTo>
                  <a:pt x="0" y="4680520"/>
                </a:lnTo>
                <a:lnTo>
                  <a:pt x="0" y="780102"/>
                </a:lnTo>
                <a:cubicBezTo>
                  <a:pt x="0" y="349264"/>
                  <a:pt x="349264" y="0"/>
                  <a:pt x="78010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" descr="C:\Users\Administrator\Desktop\花\QQ截图20160316130608.png"/>
          <p:cNvPicPr/>
          <p:nvPr/>
        </p:nvPicPr>
        <p:blipFill>
          <a:blip r:embed="rId2"/>
          <a:stretch/>
        </p:blipFill>
        <p:spPr>
          <a:xfrm>
            <a:off x="6372360" y="4365720"/>
            <a:ext cx="18316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4316760" y="44280"/>
            <a:ext cx="5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ff"/>
                </a:solidFill>
                <a:latin typeface="宋体"/>
              </a:rPr>
              <a:t>3.</a:t>
            </a:r>
            <a:r>
              <a:rPr b="0" lang="zh-CN" sz="900" spc="-1" strike="noStrike">
                <a:solidFill>
                  <a:srgbClr val="ff00ff"/>
                </a:solidFill>
                <a:latin typeface="宋体"/>
              </a:rPr>
              <a:t>形近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71640" y="246240"/>
            <a:ext cx="763272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9"/>
          <p:cNvSpPr/>
          <p:nvPr/>
        </p:nvSpPr>
        <p:spPr>
          <a:xfrm>
            <a:off x="6012000" y="4365720"/>
            <a:ext cx="21603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539640" y="1396800"/>
            <a:ext cx="7993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渴   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霹   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惶   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磨   难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空   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疏   懒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粗   拙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1908000" y="1557360"/>
            <a:ext cx="45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非常思慕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1908000" y="342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惊慌急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1908000" y="40766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困苦的境遇中遭受的折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1908000" y="472428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前所未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908000" y="5373720"/>
            <a:ext cx="47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懒散而不惯受拘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8"/>
          <p:cNvSpPr/>
          <p:nvPr/>
        </p:nvSpPr>
        <p:spPr>
          <a:xfrm>
            <a:off x="1979640" y="602136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粗糙低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1908000" y="21337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云和地面之间发生的一种强烈雷电现象。      这里指作者受到了极大的震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animEffect filter="box(in)" transition="out">
                                      <p:cBhvr additive="repl">
                                        <p:cTn id="3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作品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0" y="3372840"/>
            <a:ext cx="79745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9"/>
          <p:cNvSpPr/>
          <p:nvPr/>
        </p:nvSpPr>
        <p:spPr>
          <a:xfrm>
            <a:off x="468360" y="162864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鲁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881—1936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名周树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豫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浙江绍兴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著名的文学家、思想家、革命家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用“鲁迅”为笔名发表中国现代文学史上第一篇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话小说《狂人日记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奠定了新文学运动的基石。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迅堪称现代中国的民族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精神深刻影响着他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者、研究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至一代又一代的中国现代作家、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知识分子。主要著作有小说集《呐喊》《彷徨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文诗集《野草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文集《朝花夕拾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杂文集《热   风》《华盖集》等。初中教材中的《从百草园到三味书屋》《社戏》《阿长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海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《藤野先生《孔乙己》《故乡》《中国人失掉自信力了吗》等均出自鲁迅笔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对角圆角矩形 10"/>
          <p:cNvSpPr/>
          <p:nvPr/>
        </p:nvSpPr>
        <p:spPr>
          <a:xfrm>
            <a:off x="395280" y="1484280"/>
            <a:ext cx="8209080" cy="4608720"/>
          </a:xfrm>
          <a:custGeom>
            <a:avLst/>
            <a:gdLst/>
            <a:ahLst/>
            <a:rect l="l" t="t" r="r" b="b"/>
            <a:pathLst>
              <a:path w="8208912" h="4608512">
                <a:moveTo>
                  <a:pt x="768100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840411"/>
                </a:lnTo>
                <a:cubicBezTo>
                  <a:pt x="8208912" y="4264621"/>
                  <a:pt x="7865022" y="4608511"/>
                  <a:pt x="7440812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鲁迅.jpg" descr="id:2147500635;FounderCES"/>
          <p:cNvPicPr/>
          <p:nvPr/>
        </p:nvPicPr>
        <p:blipFill>
          <a:blip r:embed="rId2"/>
          <a:stretch/>
        </p:blipFill>
        <p:spPr>
          <a:xfrm>
            <a:off x="7667640" y="2565360"/>
            <a:ext cx="14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